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709-D6ED-471F-880A-154E13E0A77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812-219A-41C1-8EB3-CB1A29CA49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D00-384A-41DA-9D54-BAF860A6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B39-7794-4A7F-AF7F-15A31B47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0F9-3A47-4D68-A9CD-09DFDE61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240-6B9A-47D6-AF7F-D10F7343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871-8751-4730-A58E-E13CBE82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2D9-EB3B-4AD0-8E9B-4F0DEDB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2E6-2EAF-47B8-8EF7-DC04FA48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BC1-3C64-4F1C-B1E9-CF230343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5A2-CE09-421B-98FA-37027983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EB9-05AE-4EE1-98A1-F9AB760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102-2A31-4288-A235-49092A3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1D7-01E1-451A-98CB-85D067E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644E-C2E6-46B0-8C50-084D6C1CEA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다이어그램 3" descr=""/>
          <p:cNvPicPr/>
          <p:nvPr/>
        </p:nvPicPr>
        <p:blipFill>
          <a:blip r:embed="rId1"/>
          <a:stretch/>
        </p:blipFill>
        <p:spPr>
          <a:xfrm>
            <a:off x="487440" y="2109960"/>
            <a:ext cx="816300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선산여자중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김유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Picture 5" descr="앤디워홀 캠벨수프1"/>
          <p:cNvPicPr/>
          <p:nvPr/>
        </p:nvPicPr>
        <p:blipFill>
          <a:blip r:embed="rId1"/>
          <a:stretch/>
        </p:blipFill>
        <p:spPr>
          <a:xfrm>
            <a:off x="684360" y="1413000"/>
            <a:ext cx="2327040" cy="35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앤디워홀 캠벨수프2"/>
          <p:cNvPicPr/>
          <p:nvPr/>
        </p:nvPicPr>
        <p:blipFill>
          <a:blip r:embed="rId2"/>
          <a:stretch/>
        </p:blipFill>
        <p:spPr>
          <a:xfrm>
            <a:off x="3492360" y="1484280"/>
            <a:ext cx="5469120" cy="3272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75564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캠벨 수프 깡통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실크스크린 기법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7" descr="andy 5"/>
          <p:cNvPicPr/>
          <p:nvPr/>
        </p:nvPicPr>
        <p:blipFill>
          <a:blip r:embed="rId1"/>
          <a:stretch/>
        </p:blipFill>
        <p:spPr>
          <a:xfrm>
            <a:off x="468360" y="1341360"/>
            <a:ext cx="3814560" cy="379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y 4"/>
          <p:cNvPicPr/>
          <p:nvPr/>
        </p:nvPicPr>
        <p:blipFill>
          <a:blip r:embed="rId2"/>
          <a:stretch/>
        </p:blipFill>
        <p:spPr>
          <a:xfrm>
            <a:off x="4572000" y="1341360"/>
            <a:ext cx="3781440" cy="374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755640" y="537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금발의 마릴린 먼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62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합성 물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크스크린 잉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Picture 6" descr="loi 1"/>
          <p:cNvPicPr/>
          <p:nvPr/>
        </p:nvPicPr>
        <p:blipFill>
          <a:blip r:embed="rId1"/>
          <a:stretch/>
        </p:blipFill>
        <p:spPr>
          <a:xfrm>
            <a:off x="4500720" y="191628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qq"/>
          <p:cNvPicPr/>
          <p:nvPr/>
        </p:nvPicPr>
        <p:blipFill>
          <a:blip r:embed="rId2"/>
          <a:stretch/>
        </p:blipFill>
        <p:spPr>
          <a:xfrm>
            <a:off x="468360" y="1989000"/>
            <a:ext cx="3798720" cy="322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539640" y="5229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로이 리크텐스타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꽝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!&gt; 1963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유채와 마그나 아크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172.7cm x  406.4cm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테이트 갤러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런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55640" y="189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b0f0"/>
                </a:solidFill>
                <a:latin typeface="HY강B"/>
                <a:ea typeface="HY강B"/>
              </a:rPr>
              <a:t>만화도 예술이 될 수 있다</a:t>
            </a:r>
            <a:r>
              <a:rPr b="0" lang="en-US" sz="4000" spc="-1" strike="noStrike">
                <a:solidFill>
                  <a:srgbClr val="00b0f0"/>
                </a:solidFill>
                <a:latin typeface="HY강B"/>
                <a:ea typeface="HY강B"/>
              </a:rPr>
              <a:t>??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리히텐슈타인</a:t>
            </a:r>
            <a:r>
              <a:rPr b="0" lang="en-US" sz="40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만화인쇄시 나타나는 망점을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_x129893720" descr="EMB0000130038a5"/>
          <p:cNvPicPr/>
          <p:nvPr/>
        </p:nvPicPr>
        <p:blipFill>
          <a:blip r:embed="rId1"/>
          <a:srcRect l="0" t="0" r="199" b="238"/>
          <a:stretch/>
        </p:blipFill>
        <p:spPr>
          <a:xfrm>
            <a:off x="1116000" y="476280"/>
            <a:ext cx="67690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그림 1" descr="g5.jpg"/>
          <p:cNvPicPr/>
          <p:nvPr/>
        </p:nvPicPr>
        <p:blipFill>
          <a:blip r:embed="rId1"/>
          <a:stretch/>
        </p:blipFill>
        <p:spPr>
          <a:xfrm>
            <a:off x="1206360" y="69840"/>
            <a:ext cx="6731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그림 1" descr="g1.jpg"/>
          <p:cNvPicPr/>
          <p:nvPr/>
        </p:nvPicPr>
        <p:blipFill>
          <a:blip r:embed="rId1"/>
          <a:stretch/>
        </p:blipFill>
        <p:spPr>
          <a:xfrm>
            <a:off x="1809720" y="63360"/>
            <a:ext cx="552456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굴림"/>
              </a:rPr>
              <a:t>클래스 올덴버거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상의 사물을 거대하게 확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_x129893960" descr="EMB0000130038a7"/>
          <p:cNvPicPr/>
          <p:nvPr/>
        </p:nvPicPr>
        <p:blipFill>
          <a:blip r:embed="rId1"/>
          <a:stretch/>
        </p:blipFill>
        <p:spPr>
          <a:xfrm>
            <a:off x="539640" y="189000"/>
            <a:ext cx="763272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_x129892200" descr="EMB0000130038a8"/>
          <p:cNvPicPr/>
          <p:nvPr/>
        </p:nvPicPr>
        <p:blipFill>
          <a:blip r:embed="rId1"/>
          <a:stretch/>
        </p:blipFill>
        <p:spPr>
          <a:xfrm>
            <a:off x="324000" y="0"/>
            <a:ext cx="84452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_x129893240" descr="EMB0000130038a9"/>
          <p:cNvPicPr/>
          <p:nvPr/>
        </p:nvPicPr>
        <p:blipFill>
          <a:blip r:embed="rId1"/>
          <a:stretch/>
        </p:blipFill>
        <p:spPr>
          <a:xfrm>
            <a:off x="1979640" y="115920"/>
            <a:ext cx="46800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다이어그램 3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254800" cy="1218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1960</a:t>
            </a:r>
            <a:r>
              <a:rPr b="0" lang="ko-KR" sz="3200" spc="-1" strike="noStrike">
                <a:solidFill>
                  <a:srgbClr val="ff0000"/>
                </a:solidFill>
                <a:latin typeface="굴림"/>
              </a:rPr>
              <a:t>년대 대중문화를 소재로 한 미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중문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tv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화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광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만화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팝송 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표작가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앤디워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올덴버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리히텐슈                       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소비시대의 미술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팝아트의 원조작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4" descr="popart-1[1]"/>
          <p:cNvPicPr/>
          <p:nvPr/>
        </p:nvPicPr>
        <p:blipFill>
          <a:blip r:embed="rId1"/>
          <a:stretch/>
        </p:blipFill>
        <p:spPr>
          <a:xfrm>
            <a:off x="468360" y="1628640"/>
            <a:ext cx="428148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리처드 해밀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오늘날의 가정을 이토록 색다르고 멋지게 만드는 것은 무엇인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1956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콜라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6cm x 25cm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게오르크 준델 박사 컬렉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튀빙겐 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5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런던의 화이트채플 미술관에서 열린 인디팬던트 그룹의 전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것이 내일이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출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팝 아트와 그 당시 미술의 비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4" descr="검정위의밝은빨강"/>
          <p:cNvPicPr/>
          <p:nvPr/>
        </p:nvPicPr>
        <p:blipFill>
          <a:blip r:embed="rId1"/>
          <a:stretch/>
        </p:blipFill>
        <p:spPr>
          <a:xfrm>
            <a:off x="684360" y="1628640"/>
            <a:ext cx="2630520" cy="410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opart-1[1]"/>
          <p:cNvPicPr/>
          <p:nvPr/>
        </p:nvPicPr>
        <p:blipFill>
          <a:blip r:embed="rId2"/>
          <a:stretch/>
        </p:blipFill>
        <p:spPr>
          <a:xfrm>
            <a:off x="4284720" y="1628640"/>
            <a:ext cx="387648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39640" y="587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마크 로스코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정 위의 밝은 빨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57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유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232.7cm x 152.7cm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테이트 갤러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런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왼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생산과 소비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명성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향락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그리고 혼란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4" descr="톰 웨셀만"/>
          <p:cNvPicPr/>
          <p:nvPr/>
        </p:nvPicPr>
        <p:blipFill>
          <a:blip r:embed="rId1"/>
          <a:stretch/>
        </p:blipFill>
        <p:spPr>
          <a:xfrm>
            <a:off x="539640" y="2060640"/>
            <a:ext cx="4105440" cy="3259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톰 웨셀만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No.24&gt; 1962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드에 아크릴 합성물감과 천으로 된 커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122 x 152.1 x 20cm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넬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앳킨스 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캔자스 시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주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5" descr="제임스 로젠퀴스트 나는 포드자동차와 더불어 너를 사랑한다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802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임스 로젠퀴스트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나는 너를 내 포드 자동차와 더불어 사랑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&gt; 1961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캔버스에 유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86.4cm x 91.4cm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현대미술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스톡홀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앤디워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5" descr="앤디워홀 코카"/>
          <p:cNvPicPr/>
          <p:nvPr/>
        </p:nvPicPr>
        <p:blipFill>
          <a:blip r:embed="rId1"/>
          <a:stretch/>
        </p:blipFill>
        <p:spPr>
          <a:xfrm>
            <a:off x="900000" y="1557360"/>
            <a:ext cx="2927520" cy="36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앤디워홀 ck"/>
          <p:cNvPicPr/>
          <p:nvPr/>
        </p:nvPicPr>
        <p:blipFill>
          <a:blip r:embed="rId2"/>
          <a:stretch/>
        </p:blipFill>
        <p:spPr>
          <a:xfrm>
            <a:off x="4788000" y="1557360"/>
            <a:ext cx="3822480" cy="3708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82692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코크 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1962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캔버스에 합성물감과 실크스크린 잉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Picture 9" descr="앤디워홀 7"/>
          <p:cNvPicPr/>
          <p:nvPr/>
        </p:nvPicPr>
        <p:blipFill>
          <a:blip r:embed="rId1"/>
          <a:stretch/>
        </p:blipFill>
        <p:spPr>
          <a:xfrm>
            <a:off x="0" y="1773360"/>
            <a:ext cx="4427640" cy="4216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dd"/>
          <p:cNvPicPr/>
          <p:nvPr/>
        </p:nvPicPr>
        <p:blipFill>
          <a:blip r:embed="rId2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6" descr="앤디워홀 브릴로"/>
          <p:cNvPicPr/>
          <p:nvPr/>
        </p:nvPicPr>
        <p:blipFill>
          <a:blip r:embed="rId1"/>
          <a:stretch/>
        </p:blipFill>
        <p:spPr>
          <a:xfrm>
            <a:off x="539640" y="1628640"/>
            <a:ext cx="3324240" cy="412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앤디워홀 브릴로2"/>
          <p:cNvPicPr/>
          <p:nvPr/>
        </p:nvPicPr>
        <p:blipFill>
          <a:blip r:embed="rId2"/>
          <a:stretch/>
        </p:blipFill>
        <p:spPr>
          <a:xfrm>
            <a:off x="4427640" y="1628640"/>
            <a:ext cx="4321080" cy="2955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4572000" y="5084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앤디 워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브릴로 박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2:57:50Z</dcterms:created>
  <dc:creator>HOME</dc:creator>
  <dc:description/>
  <dc:language>en-US</dc:language>
  <cp:lastModifiedBy>USER</cp:lastModifiedBy>
  <dcterms:modified xsi:type="dcterms:W3CDTF">2013-03-06T07:16:25Z</dcterms:modified>
  <cp:revision>27</cp:revision>
  <dc:subject/>
  <dc:title>슬라이드 1</dc:title>
</cp:coreProperties>
</file>